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F5A-A93C-4D29-9EDC-CE2EE2BD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B12-693E-43B3-9264-5A51B1E2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55A-30ED-42C4-8677-A2D9A123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B52-95C4-4DAC-9A0A-C0BB389F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870F-753F-46AA-A055-C6E1A767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9ED6-C1ED-4617-A9C7-50890F21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E4E5-73F5-4AEF-9B1D-3587450A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C97F-D1D6-4328-AF55-348517E0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80D4-353D-4485-9B67-F8A72BC2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034A-9A6D-46AE-B518-115848C2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8C58-B1E3-4CF1-A758-E96C1D4D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BD6-7A78-437D-917A-C18222BA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EAA0-1309-4505-9B10-1F1205FB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5D8A-45E7-48F7-B48E-CF307C2F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EAEF-71A1-435A-9DA7-9ACAEF99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2A05-5690-4FC9-8A57-9415A80E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305E-EC52-4C57-A695-8C8F2122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D9B-A7B2-4B0A-96B5-0B013193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8F4-6EF6-4350-AE85-D78FCCF1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7BC-88CD-45BA-B8F0-228181F6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B6D-D113-4EDA-A933-23E8BB3F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793-6468-45BF-A52E-14BDDD0A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02D-CED3-4C61-8330-FF13A3BE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61B-4DB6-4956-89B4-28677993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1891-AC6A-4F2A-897C-A5F057E542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983B-BEC4-4748-A45C-9D1206D0B2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507AE73-CF72-4077-B20C-344985D46C60&amp;blnFromSearch=1&amp;productcode=US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4: Building Health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553080" y="990720"/>
            <a:ext cx="151308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kills for Building Social Heal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you stop and think about how important your family and friends a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the people you spend time with and who share your interests and ide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9920" y="4952880"/>
            <a:ext cx="2666880" cy="1411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2280" y="4724280"/>
            <a:ext cx="2032200" cy="1849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657600" y="4572000"/>
            <a:ext cx="15908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stening and Talk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on skills involve much more than being able to speak clear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also get their messages across by facial expressions, tone of voice, and choice of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p looking at me in that tone of voice!!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rot="1098000">
            <a:off x="7543440" y="5028840"/>
            <a:ext cx="11253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fusal Skil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Refusal Skills: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Ways to effectively say 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’s right? What’s wrong? What’s important to yo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1671840" cy="155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15084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king a Differ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how to be a positive, reliable influence on someone else’s life is extremely valu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ing someone else makes you feel good about your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2971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lthy lif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Aaron's Health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ctive kids become inactive ad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ctivity helps with academic gr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ine PE classes?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osing Questions/Re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hygie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 3 reliable sources for factual information related to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what values 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ELL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ist as many health skills as you c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53080" y="3124080"/>
            <a:ext cx="1870200" cy="188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19717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king Charge of Your Own Heal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a personal wellness contract is the first step in taking charge of your own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xt step is to follow the p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o that, you will need to understand and practice specific ski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0350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ink back to your health triangle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kills are important for your physical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s will help improve your mental/emotional healt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others will enhance your social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358800">
            <a:off x="6553080" y="4724280"/>
            <a:ext cx="139536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kills for Building Physical Heal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ting well and staying 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enough 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ing sa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ygiene: Cleanl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3098520" cy="2316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 rot="561600">
            <a:off x="6705360" y="304920"/>
            <a:ext cx="2087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kills for Building Mental and Emotional Heal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ing your self… Get into the habit of HONEST self-assess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at everyone – including you, makes mistak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ose mistakes in a positive way – to learn, grow, and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0" y="5257800"/>
            <a:ext cx="2016000" cy="134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1120" y="5334120"/>
            <a:ext cx="1508040" cy="104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04920" y="5105520"/>
            <a:ext cx="16779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o Find the Fact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er to Figure 1.6 on page 2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lthy Attitu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elf-management skill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the ability to take care of your overall health and to take control of your behavior and a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building self-management skills by learning to like and accept your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1832040" cy="2071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8600" y="51814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ke Responsibility! P. 2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ing responsible means taking char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also means making decisions that uphold your val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alues: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the beliefs that guide the way a person lives, such as beliefs about what is right and wrong and what is most impor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134136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59:19Z</dcterms:created>
  <dc:creator>GSCS</dc:creator>
  <dc:description/>
  <dc:language>en-US</dc:language>
  <cp:lastModifiedBy>GSCS</cp:lastModifiedBy>
  <dcterms:modified xsi:type="dcterms:W3CDTF">2011-01-19T14:08:11Z</dcterms:modified>
  <cp:revision>13</cp:revision>
  <dc:subject/>
  <dc:title>Chapter 1</dc:title>
</cp:coreProperties>
</file>